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B72-9BCF-4893-924F-0BAAEE67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246-5255-40E5-B6DC-4940A3A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B41-B8E6-47D7-8D68-A0790CB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A86-51A4-4F67-A610-6D042F60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ECF-79AF-4BFF-9537-D9154B2C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5D6-2F9D-49C6-995D-7639F663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609-96E4-4C76-9184-4BCCAF9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3E2-6C36-4EA3-A521-BDA80471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C30-7A51-4761-B66A-4F54E6A5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7E1-3626-48E0-804F-78B4655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C05-A272-40C5-9B92-8696C21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70E-5691-4CB3-B1D9-78C38B1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A061A-0CFE-4E17-9379-CBF722ED3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FFECTS OF NUCLE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WER POI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ON WATER SUP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04036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KNOW I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S RADIOACTVE WAS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tists mesu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radioactive w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oxygen diss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oto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kipedia (Pages 1-4-5-6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madrid (Page 3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outard (Page 6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ravelpod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ity of Bron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NIER Capu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CHON Chl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REAU Re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oi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to know if water has radioactive was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AR POWER POI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point represents a nuclear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51246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fr-FR" sz="26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2001 : Low « Polluter, Paying 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ter many debates, the low was created for people wh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llute water ; it is a 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Farmers who use fertilizer pay this tax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22680" y="468000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but nuclear power points and every nuclear infrastructure, that re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dioactive waste, don't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1960" y="4859280"/>
            <a:ext cx="3397320" cy="23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539640"/>
            <a:ext cx="35766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so they use to reject too much waste without paying anyth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in reprocessing point of la Hague, wastes are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English channel or in air. And because of these rejects,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e.Helen is poll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0000" y="4859280"/>
            <a:ext cx="4137120" cy="251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03040"/>
            <a:ext cx="3780000" cy="2497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oints and reprocessing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e not the only things which reject radioactive wastes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opitals, militar camps do but simple and cheap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ld stop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se don't pay the tax to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160720"/>
            <a:ext cx="1619280" cy="2879640"/>
          </a:xfrm>
          <a:prstGeom prst="triangle">
            <a:avLst>
              <a:gd name="adj" fmla="val 500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9640" y="5040360"/>
            <a:ext cx="2773440" cy="23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60720" y="411120"/>
            <a:ext cx="352260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sunami is a problem when nuclear power points are too proach from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m the see come into land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t takes all wastes it find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cliding radioactive wast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bring them back in the oc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n you have water problems, because nuclear power points need so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adioactive water i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jected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in river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oints make earthquake, that damage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